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move the slide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DF5A-7611-4189-BC18-2B02D8779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rdware and 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Computers (P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s are computers that can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individuals at home, work, o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 models or portable laptop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to a server in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 Opera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e of the principal differences among computers is the operating syst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ng systems enable computers to run software and perform basic task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st personal computers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or Macintosh (MacOS) operating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and MacOS operating systems are not compat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D1A-3259-4A68-8450-0D5A69FE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FDA-3A5E-4A4A-A0A4-2BEE2644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F4F-86E5-49A5-BC7D-55671EE7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C6C-2211-4BAB-A5C5-88B9C3D1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8185-DD97-4A2B-8240-DF0EC971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D28B-BCBD-4556-8D15-AAF58F00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938F-0B6A-4733-882F-AD8EB4EE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67FA-5F70-45E7-B8CD-D3020D4A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16A-358A-4731-8803-91BFB1E5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6B36-9F27-4F0E-A202-3B2B97DD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A65A-8045-42DD-AE59-0C4D260B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838-5A94-4BD2-BBF0-5B5AEFAB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BA07-9ABA-44E7-B7A3-0D3ADA3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2DC7-E624-48FB-BFA4-C33667C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FA5B-FC3A-4F3C-8F41-B2EC51E4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2B4C-1673-4622-BCCF-5C70AC73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A47-BF3F-477D-990E-77C26F17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9B0-1E17-414B-B060-27815A19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EC5-4A2F-4AF3-B739-A615C8FF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434-D95E-4DD1-A6B3-564FD3CF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C66-37DB-4F9A-860A-E0376CC4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394-D712-448B-9095-13BAB60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264-A5BB-403F-B11B-F829FA4E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D3E-6C65-4301-9CE1-16CACAC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6F13-27E1-4FCB-B30A-6B99DD000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AC06-2AF5-4EBC-AEFB-334B23374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Hardware and Multimedia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4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puter Network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order to exchange files and share resources, computer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 special input and output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be part of a network, such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area networks (LA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area networks (WA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nnecting to Network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mputers can be linked to the Internet or a network through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ial-up or broadband connection using a mod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twork interface card (N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ou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ersonal Computers (PCs)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Cs are computers that can b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by individuals at home, work, or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ktop models or portable laptop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ed to a server in a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operating system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perating systems enable computers to run software and perform basic task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C Operating System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ne of the principal differences among computers is the operating system.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ersonal computers use Windows or Macintosh (Mac OS) operating syste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and Mac OS operating systems are not compati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input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put is any information put into a computer. 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Input Devic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mmon input device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boards and keyp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e, trackballs, and touchp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phones, digital recorders, synthesizers, and musical keybo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still cameras, digital camcorders, and Webc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tablets and scan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controll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Output Devices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utput is any information that a computer produces. Common output device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T or LCD mon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uch screens, plasma displays, LED displays, and proje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k-jet or laser pr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torage Devic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gital storage devices allow you to save your work. Common storage device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 drives, which are built in the compu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able storage di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ppy di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724280"/>
            <a:ext cx="358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p 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Processing Components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476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cessing includes all the calculations and other operations a computer performs. It depends o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processors, or c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entral processing unit (CPU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-access memory (RA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80060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3:25:44Z</dcterms:created>
  <dc:creator>LJ</dc:creator>
  <dc:description/>
  <dc:language>en-US</dc:language>
  <cp:lastModifiedBy>GLENCOE</cp:lastModifiedBy>
  <dcterms:modified xsi:type="dcterms:W3CDTF">2003-01-04T00:17:00Z</dcterms:modified>
  <cp:revision>13</cp:revision>
  <dc:subject/>
  <dc:title>Chapter 4 Hardware and Multimedia</dc:title>
</cp:coreProperties>
</file>